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9BB-3FCC-4363-BEEC-1F03605F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CE3-37CE-4711-8392-A125B4F3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F32-C460-42A7-BCBE-DE236E61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C38-415E-49D2-9203-45057285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F0EA-27ED-41E2-8B6C-BB61CA3E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3273-28F2-48EC-AB1F-13B29FA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4EDA-2224-4AF0-96E8-C3B12159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E2DE-DA5F-405A-95CE-31417792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1378-6FE3-4DEC-9827-61A9516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20E-CA15-41B7-BC95-708E017B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9055-E574-4E69-A155-86BF5945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CA1-983A-41BB-991C-D214318E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50BE-18FF-4A7A-8A62-4655C24E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9531-593E-4A22-9636-18A0163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0302-584E-4DF2-889A-D3DDFAF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9934-ADA8-44F7-9643-10A125E6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7ECC-88B6-4FA6-A545-88891D86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2F8-A240-4521-A2DF-B4125BFF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542-D718-4571-93B3-084C7FFE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C6D-0C35-4A0A-9838-B7CDCC96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7D4-EF79-4A28-823F-9AF678F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40B-476B-41B4-9741-4AEB759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161-601E-4157-9CED-E7AF686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669-84FA-4692-BC0D-7F55F4B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FFFF-10E6-472C-8C19-332D3F9F5E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D92-DAE7-4593-901B-F5E72742B6F7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Введение в информатику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Так же при работе необходимо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ышать ритмично, свободно, глубоко, чтобы обеспечивать кислородом все части тел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ржать в расслабленном состоянии плечи и руки - в руках не будет напряжения, если плечи опущены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аще моргать и смотреть в даль. Моргание способствует не только увлажнению и очищению поверхности глаз, но и расслаблению лицевых, лобных мышц (без сдвигания бровей). Малая подвижность и длительное напряжение глазных мышц могут стать причиной нарушения аккомод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ощущении усталости какой-то части тела сделайте глубокий вдох и сильно напрягите уставшую часть тела, после чего задержите дыхание на 3-5 с и на выдохе расслабеть, затем можно повтори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ощущении усталости глаз следует в течении 2-3 мин окинуть взглядом комнату, устремить взгляд на разные предметы, смотреть в даль (в окно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резко возникло общее утомление, появилось дрожание изображение на экране (покачивание, подергивание, рябь), следует немедленно сообщить об этом учите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Примерный комплекс упражнений</a:t>
            </a:r>
            <a:br>
              <a:rPr sz="3600"/>
            </a:b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для глаз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рыть глаза, сильно напрягая глазные мышцы, на счет 1-4, затем раскрыть глаза, расслабить мышцы глаз, посмотреть вдаль на счет 1-6. Повторить 4-5 р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мотреть на переносицу и задержать взор на счет 1-4. До усталости глаза не доводить. Затем открыть глаза, посмотреть вдаль на счет 1-6. Повторить 4-5 р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поворачивая головы, посмотреть направо и зафиксировать взгляд на счет 1-4. Затем посмотреть вдаль прямо на счет 1-6. Аналогично проводятся упражнения, но с фиксацией взгляда влево, вверх, вниз. Повторить 3-4 ра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вести взгляд быстро по диагонали: направо вверх – налево вниз, потом прямо вдаль на счет 1-6; затем налево вверх – направо вниз и посмотреть вдаль на счет 1-6. Повторить 4-5 раз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ле 10-15 минут непрерывной работы за ПК необходимо делать перерыв для проведения физкультминутки и упражнений для глаз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72360" y="981000"/>
            <a:ext cx="2305080" cy="68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мпьютер – электрический прибор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мпьютер является электрическим прибором, поэтому для собственной безопасности нужно помнить, чт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каждому рабочему месту подведено опасное для жизни напряже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хника, с которой вы будете работать, достаточно нежная, поэтому соблюдайте следующие прав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вы обнаружили какую-либо неисправность, немедленно сообщите об этом преподавателю. Не работайте на неисправном оборудовани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включайте и не выключайте компьютеры самостоятель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дергайте и вообще не трогайте различные пров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стучите по клавиатуре и мыш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садитесь за клавиатуру с грязными рук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Зарождение информати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недрение компьютерной техники во все сферы человеческой деятельности послужило толчком к зарождению новой научной и прикладной дисциплины -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информатик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первые этот термин стал использоваться во Франции в 60-х годах. В англоязычных странах ему соответствует синоним computer science (наука о компьютерной технике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нашей стране информатика стала определяться как самостоятельная область деятельности с начала 80-х годов, а спустя несколько лет вошла в школьную программу как самостоятельная дисциплина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Человек и компьютер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тика определяет сферу человеческой деятельности, связанную с процессами хранения, преобразования и передачи информации с помощью компьюте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гуще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омпьютер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яе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человеком и те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нания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ыми он облада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роцессе изучения информатики надо не только научиться работать на компьютере, но и уметь целенаправленно его использовать для познания и созидания окружающего нас ми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Термин "информатика"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Informatique = information + automat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Информатика = информация + автома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Термин "информатика"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оязычный вариант этого термина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Сomputer science", что означае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льно "компьютерная наука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omputer science</a:t>
            </a: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        Компьютерная нау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1842840" cy="181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Что такое информатика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ти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техническая наука, определяющая сферу деятельности, связанную с процессами хранения, преобразования и передачи информации с помощью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мпью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универсальный прибор для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59640" y="5373720"/>
            <a:ext cx="1824120" cy="112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Ваше рабочее мест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бы учиться было комфортно, чтобы не нанести вреда своему здоровью, вы должны уметь правильно организовать свое рабочее ме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вильная рабочая поза позволяет избегать перенапряжения мышц, способствует лучшему кровотоку и дыхани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99080" y="1800360"/>
            <a:ext cx="4022640" cy="5013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авильная рабочая поз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54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ледует сидеть прямо (не сутулясь) и опираться спиной о спинку кресла. Прогибать спину в поясничном отделе нужно не назад, а, наоборот, в немного пе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допустимо работать развалившись в кресле. Такая поза вызывает быстрое утомление, снижение работоспособност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следует высоко поднимать запястья и выгибать кисти - это может стать причиной боли в руках и онемения пальце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лени - на уровне бедер или немного ниже. При таком положении ног не возникает напряжение мышц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льзя скрещивать ноги, класть ногу на ногу - это нарушает циркуляцию крови из-за сдавливания сосудов. Лучше держать обе стопы на подставке или п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обходимо сохранять прямой угол (9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в области локтевых, тазобедренных и голеностопных сустав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89320" y="2205000"/>
            <a:ext cx="4630680" cy="280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авильная рабочая поз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9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Монитор необходимо установить на такой высоте, чтобы центр экрана был на 15-20 см ниже уровня глаз, угол наклона до 1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Экран монитора должен находиться от глаз пользователя на оптимальном расстоянии 60-70 см, но не ближе 50 см с учетом размеров алфавитно-цифровых знаков и символов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е располагайте рядом с монитором блестящие и отражающие свет предметы 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оверхность экрана должна быть чистой и без световых бликов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6:10:05Z</dcterms:created>
  <dc:creator>bas</dc:creator>
  <dc:description/>
  <dc:language>en-US</dc:language>
  <cp:lastModifiedBy>XTreme</cp:lastModifiedBy>
  <dcterms:modified xsi:type="dcterms:W3CDTF">2009-03-23T07:46:04Z</dcterms:modified>
  <cp:revision>8</cp:revision>
  <dc:subject/>
  <dc:title>Введение в информатику</dc:title>
</cp:coreProperties>
</file>