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371-93BF-4AE9-8F78-C610BFCA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C12-E37A-4935-BA7E-E876A7C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592-2CA0-42A9-967A-5A7F1611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0A2-1E57-49B2-889B-E33D3BEA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EF6-2941-4843-966F-B8A7F89A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F60-6CFD-4937-A87C-80B8527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405D-4055-4B4D-A4AA-B0F9C49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038-4B33-44CC-8C92-CF6611DD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6A4-3219-4A74-9682-1891A09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3A0-79DB-4E01-93E6-5B2FAFC3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13D-61F0-4941-A01F-525CD14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474-DA5D-47CD-9685-425031D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543-02F9-43D2-8CF4-35841F0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469-158F-4419-95AD-6C4D41B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BE5F-401E-4E78-A05E-1E63CE01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D92B-5742-4D70-840C-2A4F0B17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DCC-048F-4800-81AB-D588DDA5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0B25-958E-4D2E-BFFE-0EBDA9F9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A4C8-62CE-4518-99C2-65FAA23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155A-683F-4AAA-BCAF-3AD909A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B862-6FE4-4280-910C-9EE5409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ECE0-B016-48A7-B1B1-35AF46F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AED-3B4A-4F9F-9087-1C0015F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E4D2-B782-47D8-A228-930DCF7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C427-899B-4644-A921-BF941BD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379B-5DC9-4B6A-B054-930F0D4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17FB-EF3C-4A91-86F6-C0032BF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A963-6538-41D4-848A-C063CB43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3802-C3D0-4000-808F-7DAC4AC6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9C49-1847-4E1F-B462-184F4F9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376C-C39E-4F1D-AA24-633F9C80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E8A0-5B36-46CF-842B-0BC4AE57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719F-B2EA-4156-9CBA-8F7BFD7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BAE-6784-40F7-ABFE-2CDB90D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614D-3642-4EE1-B9EF-85AF52CB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F2F0-68BE-4C1F-A4A7-E5845F7F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CDD6-D934-4C24-A390-48DF7669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B1FD-1351-4C58-BACE-74B9191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91DA-51EE-41BC-AD07-A117968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C7FF-B02C-4572-ABB3-29D6B72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91C7-1FED-487E-B4F0-7700C0F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DD00-C7B6-4F1F-BE84-3CEFC207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2BBD-F48C-4A0C-920F-FFCC83AC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1BFF-6648-41D6-BF0B-D1D7EA59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CBB-2E31-496C-8C51-22D6CC4E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3D22-5227-4497-8236-4D993D8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34B0-697D-4231-9BBF-9E69D1C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CB33-0023-409A-BF88-9802118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9A95-63B4-4499-B5E4-40A62E1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839F6-8E58-4744-9C4F-F8C8AE42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8B04D-AD59-4BF9-BC88-F17C3D3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6984-919C-46F1-B638-7059EDF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39D8-4E57-4120-ACBA-BB38452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A03C-7B22-46B5-B762-BD0091A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BC6A-78A7-4E96-8711-231A9C61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882-2F14-49A1-9500-C2948B5A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23E6-6AB2-446D-A511-E9F5B264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B39C-523D-4EE5-88B1-55CEC72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2EC51-75BE-4598-AC36-2EF97A7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DC09-BF84-4FF9-922F-CFA8461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0998F-D1FC-403E-B322-68B270FF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88B8-3BE1-408E-8394-24E54D0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5C37-BE00-4E7A-9066-688F842E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C4F0A-74F4-44FB-88D3-D673810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8048-6DF6-41D6-AC51-D204098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1C7E-9B04-4B0A-8638-70FF8FA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AE5-AC1D-4A36-B20F-C56BDE6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C2FD-1DEA-4E6D-9B26-D082DCE7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AE4C-2F75-4A72-B625-302CFD1D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9CA12-0B4F-40B0-A874-4E7965B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6941-1DC8-4A65-90D9-D81D51B3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ECF2-B311-4590-BC5D-2312E87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4A36-0D41-4A66-88EA-61FD46C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2E254-E1D6-498D-8937-EC04F89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43B4-FEE5-4A3A-BEC7-40A6D47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A9F9-2881-45BC-A3CF-D61761FB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16D04-42E6-4DFA-B164-1D2FCD8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038-CE31-4C30-B4B3-A7CAA7D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184D-C304-40FD-9D18-615FF57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27A9-90CC-4D04-AA37-A43B6B4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86BA-F661-4C00-82F3-F247B10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E920-21E4-4B21-B9B0-5593A259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8AE89-1982-45D9-8306-8345BB19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F1A9-B106-4D7F-9743-F248128D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C15DD-23CA-4FBF-AAD4-88FA159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82D5-F08D-46E0-A52C-D52BBD90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3F5DF-C2A5-4BE8-B321-373A803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ADE8-3B50-445C-840C-A97E169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665-AB34-4961-A757-BDEBA9CC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F51F9-727F-45FD-831E-8F05C81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A148-7026-41E1-80C8-BF41BF7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E8C76-B480-441B-9C39-8D46E4B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44B7-99E1-423C-BB10-5AEBC21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E729-1B51-4286-80CD-57C417E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E9CF4-911D-47B0-B299-B5284C89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DA93-235C-46D7-A35F-034B9392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BFD-60DF-47C9-B8C5-088979A0A2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518-5B3F-4F1B-9AE7-43D6B92D77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CF4-6199-4807-955F-D7A1462E33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27E-801E-428C-9695-1696BCA41C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C4C-3C66-4D5A-A2C4-2BAB96CF1B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52D4-DC4B-42AB-A22D-A57ABD4AD8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332D-4596-44C1-9DCD-E77E7A8ABC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F23-536C-4527-8335-ADCB7DEDF3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уктив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оличество ядер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актовая частот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95640" cy="2827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2124000" y="4869000"/>
            <a:ext cx="1433520" cy="133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92320" cy="1200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392040" y="4856040"/>
            <a:ext cx="1582920" cy="118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427640" y="4941720"/>
            <a:ext cx="19764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8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500040" y="1096920"/>
            <a:ext cx="8286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ивная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мя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оянная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мя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2"/>
          <a:stretch/>
        </p:blipFill>
        <p:spPr>
          <a:xfrm>
            <a:off x="4284720" y="4365720"/>
            <a:ext cx="1914480" cy="1181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2495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исковые накопите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тические носители и оптические дисковод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Флеш-накопите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2"/>
          <a:stretch/>
        </p:blipFill>
        <p:spPr>
          <a:xfrm>
            <a:off x="6143760" y="571680"/>
            <a:ext cx="1670040" cy="1623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3"/>
          <a:stretch/>
        </p:blipFill>
        <p:spPr>
          <a:xfrm>
            <a:off x="6877080" y="3429000"/>
            <a:ext cx="1871640" cy="1776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4"/>
          <a:stretch/>
        </p:blipFill>
        <p:spPr>
          <a:xfrm>
            <a:off x="3780000" y="4581360"/>
            <a:ext cx="2016000" cy="1863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5"/>
          <a:stretch/>
        </p:blipFill>
        <p:spPr>
          <a:xfrm>
            <a:off x="2571840" y="4572000"/>
            <a:ext cx="1346040" cy="1093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6"/>
          <a:stretch/>
        </p:blipFill>
        <p:spPr>
          <a:xfrm>
            <a:off x="1042920" y="4581360"/>
            <a:ext cx="1373400" cy="1343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"/>
          <p:cNvPicPr/>
          <p:nvPr/>
        </p:nvPicPr>
        <p:blipFill>
          <a:blip r:embed="rId7"/>
          <a:stretch/>
        </p:blipFill>
        <p:spPr>
          <a:xfrm>
            <a:off x="5651640" y="5445000"/>
            <a:ext cx="13428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3:54:46Z</dcterms:created>
  <dc:creator>SEC</dc:creator>
  <dc:description/>
  <dc:language>en-US</dc:language>
  <cp:lastModifiedBy>Яна</cp:lastModifiedBy>
  <dcterms:modified xsi:type="dcterms:W3CDTF">2011-09-29T12:15:42Z</dcterms:modified>
  <cp:revision>15</cp:revision>
  <dc:subject/>
  <dc:title>Обробка та зберігання інформації</dc:title>
</cp:coreProperties>
</file>