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0E86-F0F8-4C89-A5B8-A4EC7593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E0D-A900-4FAF-B52F-90130908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56C-D38E-47EF-A0F2-C097D6FB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EF68-9FC4-46E5-9225-1F47DC74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8CA2-D498-4F64-9440-F232F993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0CC2-5CB1-4C9E-A650-83B67841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546A-1FDC-4FA5-8100-5F20126E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AC01-CEAC-440F-8839-9CC012C2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2B6F-770B-48FC-A674-595C92E4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D581-3D96-4809-8B6E-5C517673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0795-B24E-4DB9-9B9E-FB103EA0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306-B724-4542-B3C3-E16853CA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2813-1391-472D-A45F-37F1678D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3023-C2E1-4977-9D71-3FB32B2A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7668-8CA6-4546-A5A9-6FE24240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6D86-250E-4DB1-B27D-D152C50D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71DE-A25B-4EA5-8D55-5DC7631E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CE7-7525-453E-9AB2-2CB535D4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195-7070-480B-8233-756587D0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C9B9-4516-4127-8911-8BCBBC1B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FAA-F592-4EEF-B2B6-8926F781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500-A6FD-43EF-9BA4-BAC68B8B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86B-88E7-4BB3-817F-0AEAA10B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0E7-851A-4F7F-96AF-16BA212C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7D80-C04E-4A74-BEE8-60995E9D9D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Text Box 13"/>
          <p:cNvSpPr/>
          <p:nvPr/>
        </p:nvSpPr>
        <p:spPr>
          <a:xfrm>
            <a:off x="450720" y="93600"/>
            <a:ext cx="8137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468360" y="404640"/>
            <a:ext cx="777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A756-F592-430F-A038-CD5821BD8F4E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Кодирование информации в компьютере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Таблица кодиров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ица, в которой всем символам компьютерного алфавита поставлены в соответствие порядковые номера (коды), называе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аблицей кодиров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азных типов ЭВМ используются различные кодировки. С распространение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еждународным стандартом стала таблица кодировк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 Standart Code for Information Interchang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мериканский стандартный код для информационного обме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Двоичный код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я информация, которою обработает компьютер, должна быть представле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оичным код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помощью двух цифр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 и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и два символа 0 и 1 принято называть битами (от англ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inary digi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воичный знак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дирование и декодирова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одиро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еобразование входной информации в форму, воспринимаемую компьютером, т.е. двоичный ко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екодиро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еобразование данных из двоичного кода в форму, понятную челове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пособы кодирова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кодирования и декодирования информации в компьютере, в первую очередь, зависит от вида информации, а именно, что должно кодироваться: числа, текст, графические изображения или зву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едставление чисе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записи информации о количестве объектов используются числа. Числа записываются с использование особых знаковых систем, которые называют системами счис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а счисл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совокупность приемов и правил записи чисел с помощью определенного набора симво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снование системы счисл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57120" y="1928880"/>
          <a:ext cx="8429760" cy="4286160"/>
        </p:xfrm>
        <a:graphic>
          <a:graphicData uri="http://schemas.openxmlformats.org/drawingml/2006/table">
            <a:tbl>
              <a:tblPr/>
              <a:tblGrid>
                <a:gridCol w="2408400"/>
                <a:gridCol w="1520640"/>
                <a:gridCol w="4500720"/>
              </a:tblGrid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 счис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фавит циф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 1, 2, 3, 4, 5, 6, 7, 8,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о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ьмер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 1, 2, 3, 4, 5, 6,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стнадцатер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 1, 2, 3, 4, 5, 6, 7, 8, 9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, B, C, D, E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Двоичное кодирование текстовой информаци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чиная с 60-х годов, компьютеры все больше стали использовать для обработки текстовой информации и в настоящее время большая часть ПК в мире занято обработкой именно текстовой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о для кодирования одного символа используется количество информации = 1 байту (1 байт = 8 битов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Двоичное кодирование текстовой информаци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кодиров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дного симво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ребу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дин бай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ывая, что каждый бит принимает значение 1 или 0, получаем, что с помощью 1 байта можно закодировать 256 различных симво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2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Двоичное кодирование текстовой информаци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ирование заключается в том, что каждому символу ставиться в соответствие уникальный двоичный код от 00000000 до 11111111 (или десятичный код от 0 до 25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жно, что присвоение символу конкретного кода – это вопрос соглашения, которое фиксируется кодовой таблиц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2:45:46Z</dcterms:created>
  <dc:creator>bas</dc:creator>
  <dc:description/>
  <dc:language>en-US</dc:language>
  <cp:lastModifiedBy>Яна</cp:lastModifiedBy>
  <dcterms:modified xsi:type="dcterms:W3CDTF">2011-09-12T11:28:41Z</dcterms:modified>
  <cp:revision>91</cp:revision>
  <dc:subject/>
  <dc:title>Слайд 1</dc:title>
</cp:coreProperties>
</file>