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A56-895C-4E05-BEC4-F6983E65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EF2-F569-46CC-B637-C0B5DB85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4AD-8F60-4A66-BD9E-0C4818B2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B26-9011-48F5-8E93-8BB4BEC7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3678-665E-4F73-A379-9FA73B1D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0277-5CE8-4515-B07A-5D8D4AC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98BE-5305-45C0-866C-9C9468F3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5F2-AD62-43FE-9B23-B4011362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878-4E6B-41D5-B375-ADA3E171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B84F-C72F-4C00-AF1D-0F2F822C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109-E165-4A6B-94D8-E435D3CA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8B2-D849-4709-B76D-0250E46A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AB25-935D-4813-9239-DD50E2B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BA36-0876-4C4B-8115-0065598B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97BD-918D-4C2A-8937-ADC5F900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064D-3FA4-4E97-BD2A-641688D8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23F4-3853-4DD3-A3B2-61BEAAF3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BCE-E54C-4C21-89FB-2012D973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516-D08D-49DD-8498-73A9945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4B3-D899-46AA-B215-E53CD3EA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365-E4E5-47F6-8802-FB987F9C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881-E1E7-4E3C-BDDA-3AC983F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C63-E28C-467E-A920-19F9580A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9C5-82E2-42D5-B8C6-F3C7BFA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04ED-797F-4639-8EB4-EE7315DAA8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1341-4779-4FA2-A19A-59D54C9DC4A8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айлы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и файловая систем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уть к файл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3280" y="1828800"/>
            <a:ext cx="3683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того чтобы найти файл в иерархической файловой структуре необходимо указать путь к файлу. В путь к файлу входят записываемые через разделитель "\" логическое имя диска и последовательность имен вложенных друг в друга каталогов, в последнем из которых находится данный нужный фай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360" y="2133720"/>
            <a:ext cx="5183280" cy="327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59280" y="5445000"/>
            <a:ext cx="3384360" cy="11912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Физика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Информатика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исунки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00720" y="1989000"/>
            <a:ext cx="4643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уть к файлу вместе с именем файла называют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лным именем фай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60" y="2133720"/>
            <a:ext cx="4248360" cy="2685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5118120"/>
            <a:ext cx="7523280" cy="161856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Физика\Оптические явления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Интерне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Компьютерные вирусы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Зака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 Зима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ап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перационной систем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место каталогов используется понятие «папка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ап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бъек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редназначенное для объединения файлов и других папок в групп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нятие папки шире, чем понятие «каталог». В Windows на вершине иерархии папок находится папка Рабочий стол. (Следующий уровень представлен папками Мой компьютер, Корзина и Сетевое окружение (если компьютер подключен к локальной сети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ерархии папок 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7920000" cy="462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андартные действия с файл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ие действия с файлами, как «создать», «сохранить», «закрыть» можно выполнить только в прикладных программах («Блокнот», «Paint», …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 «открыть», «переименовать», «переместить», «копировать», «удалить» можно выполнить в системной сре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ерации с файлами и пап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п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копия файла помещается в другой каталог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мещ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сам файл перемещается в другой каталог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да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запись о файле удаляется из каталог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имен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изменяется имя файл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пишите полные имена всех файл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985080" cy="4581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пишите полные имена всех файл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824360" cy="3165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5373720"/>
            <a:ext cx="8207280" cy="13136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ройте дерево катало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C:\Рисунки\Природа\Небо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C:\Рисунки\Природа\Снег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C:\Рисунки\Компьютер\Монитор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C:\Мои документы\Доклад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ройте дерево катало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2000" y="1812960"/>
            <a:ext cx="6192720" cy="341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246640"/>
            <a:ext cx="8353440" cy="161136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Рисунки\Природа\Неб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Рисунки\Природа\Снег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Рисунки\Компьютер\Монитор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Доклад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программы и данные хранятся в долговременной (внешней) памяти компьютера в виде фай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Фай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— это определенное количество информации (программа или данные), имеющее имя и хранящееся в долговременной (внешней) памя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 файла состоит из двух частей, разделенных точкой: собственно </a:t>
            </a:r>
            <a:r>
              <a:rPr b="0" i="1" lang="ru-RU" sz="2800" spc="-1" strike="noStrike">
                <a:solidFill>
                  <a:srgbClr val="409632"/>
                </a:solidFill>
                <a:latin typeface="Times New Roman"/>
              </a:rPr>
              <a:t>имя фай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расшир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пределяющее его тип (программа, данные и т.д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ственно имя файлу дает пользователь, а тип файла обычно задается программой автоматически при его созд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9632"/>
                </a:solidFill>
                <a:latin typeface="Times New Roman"/>
              </a:rPr>
              <a:t>proba</a:t>
            </a:r>
            <a:r>
              <a:rPr b="0" lang="ru-RU" sz="4400" spc="-1" strike="noStrike">
                <a:solidFill>
                  <a:srgbClr val="ff7c8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t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9632"/>
                </a:solidFill>
                <a:latin typeface="Times New Roman"/>
              </a:rPr>
              <a:t>Единицы измерения информации</a:t>
            </a:r>
            <a:r>
              <a:rPr b="0" lang="ru-RU" sz="4400" spc="-1" strike="noStrike">
                <a:solidFill>
                  <a:srgbClr val="ff7c8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Соглашение 8.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оявления операционной системы Windows 95 на большинстве компьютеров IBM PC работала операционная система MS-DOS, в которой действовали весьма строгие правила присвоения имен файлам. Эти правила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глашением 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оглашению 8.3 имя файла может состоять из двух частей, разделенных точкой. Первая часть может иметь длину до 8 символов, а вторая часть (после точки) — до 3 символов. Вторая часть, стоящая после точки, называется расширением и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записи имени файла разрешается использовать только буквы английского алфавита и цифры. Начинаться имя должно с буквы. Пробелы и знаки препинания не допускаются, за исключением восклицательного знака (!), тильд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 символа подчеркивания (_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линные имена фай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введения в действие операционной системы Windows 95 требования к именам файлов стали существенно мягче. Они действуют и во всех последующих версия операционных систем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азрешается использовать до 255 симв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азрешается использовать символы национальных алфавитов, в частности русск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азрешается использовать пробелы и другие ранее запрещенные символы, за исключением следующих девяти: /\:*?"&lt;&gt;|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В имени файла можно использовать несколько точек. Расширением имени считаются все символы, стоящие за последней точ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00040" y="676440"/>
          <a:ext cx="8229600" cy="592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емые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e, 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ые фай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xt, rtf,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е фай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jpg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ng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-стран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е фай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ай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(текст) программы на языках программ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айловая сист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каждом носителе информации (гибком, жестком или лазерном диске) может храниться большое количество файлов. Порядок хранения файлов на диске определяется установленной файловой систем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Файловая систе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система хранения файлов и организации каталог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дноуровневая файловая сис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дисков с небольшим количеством файлов (до нескольких десятков) удобно применя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дноуровневую файловую систем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когда каталог (оглавление диска) представляет собой линейную последовательность имен файлов. Для отыскания файла на диске достаточно указать лишь имя фай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одноуровневая файловая система"/>
          <p:cNvPicPr/>
          <p:nvPr/>
        </p:nvPicPr>
        <p:blipFill>
          <a:blip r:embed="rId1"/>
          <a:stretch/>
        </p:blipFill>
        <p:spPr>
          <a:xfrm>
            <a:off x="1835280" y="3500280"/>
            <a:ext cx="561636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ногоуровневая иерархическая файловая сис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на диске хранятся сотни и тысячи файлов, то для удобства поиска файлы организуются 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ногоуровневую иерархическую файловую систе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которая имеет «древовидную» структуру (имеет вид перевернутого дерев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многоуровневая иерархическая файловая система"/>
          <p:cNvPicPr/>
          <p:nvPr/>
        </p:nvPicPr>
        <p:blipFill>
          <a:blip r:embed="rId1"/>
          <a:stretch/>
        </p:blipFill>
        <p:spPr>
          <a:xfrm>
            <a:off x="2124000" y="3429000"/>
            <a:ext cx="3960720" cy="311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XTreme</cp:lastModifiedBy>
  <dcterms:modified xsi:type="dcterms:W3CDTF">2009-03-23T08:23:03Z</dcterms:modified>
  <cp:revision>31</cp:revision>
  <dc:subject/>
  <dc:title>Устройство компьютера</dc:title>
</cp:coreProperties>
</file>