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D733-BEFF-40BA-B5C7-93DEF822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D80B-2FCC-4809-BC0E-66498146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17D4-A441-4B4A-BCCD-69F7E811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05B-161A-4004-9E27-2B18CBC7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1870-863A-4BCD-ABAE-E19F5F1C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851F-BAB7-473D-8E87-4977E9EE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1D7F-F9DB-42FC-B343-F1DFD171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B864-7451-4768-A720-D8687F78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CAE3-5728-49FA-A18A-15607598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9476-9F9A-461F-BCCC-3DA3E461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3526-3DA3-46EF-9470-F5FC5EE7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F5E-98C1-4D3F-9668-C72DCE4B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67A2-20FB-4F62-B88F-B37F53BC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6AFC-C419-4101-8E44-E58ADCAE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1CAC-161F-4D39-A7E5-7C909ADD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6027-B7CC-45DA-BEAB-4752FB67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290C-9E1D-441E-BA6F-FE9512F0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A3BF-9C0E-4A2A-8D2D-73C06384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2443-F94C-42B4-BF0B-ACC2DD40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21D-C0D8-42B4-A6CA-2387AA11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F215-300F-4F25-9515-2A2B3636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1DA9-C6A7-4A47-86F1-D1BD9728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FEC-F4A5-493D-BB06-5CCA77D0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A67-FCFD-4ADA-8F39-D0B4CEC5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5CA0-4577-4CF2-8801-C34127CE68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Text Box 13"/>
          <p:cNvSpPr/>
          <p:nvPr/>
        </p:nvSpPr>
        <p:spPr>
          <a:xfrm>
            <a:off x="450720" y="93600"/>
            <a:ext cx="8137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468360" y="404640"/>
            <a:ext cx="777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EEA6-36EB-4383-8125-AAB8852EB503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Введение в информатику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рождение информатик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недрение компьютерной техники во все сферы человеческой деятельности послужило толчком к зарождению новой научной и прикладной дисциплины -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информатики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первые этот термин стал использоваться во Франции в 60-х годах. В англоязычных странах ему соответствует синоним computer science (наука о компьютерной технике)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 нашей стране информатика стала определяться как самостоятельная область деятельности с начала 80-х годов, а спустя несколько лет вошла в школьную программу как самостоятельная дисциплина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Что такое информатика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т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техническая наука, определяющая сферу деятельности, связанную с процессами хранения, преобразования и передачи информации с помощью компьюте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омпьюте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универсальный прибор для обработк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j0285750"/>
          <p:cNvPicPr/>
          <p:nvPr/>
        </p:nvPicPr>
        <p:blipFill>
          <a:blip r:embed="rId1"/>
          <a:stretch/>
        </p:blipFill>
        <p:spPr>
          <a:xfrm>
            <a:off x="6659640" y="5373720"/>
            <a:ext cx="1824120" cy="112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аше рабочее место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бы учиться было комфортно, чтобы не нанести вреда своему здоровью, вы должны уметь правильно организовать свое рабочее мест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ильная рабочая поза позволяет избегать перенапряжения мышц, способствует лучшему кровотоку и дыханию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worker_place"/>
          <p:cNvPicPr/>
          <p:nvPr/>
        </p:nvPicPr>
        <p:blipFill>
          <a:blip r:embed="rId1"/>
          <a:stretch/>
        </p:blipFill>
        <p:spPr>
          <a:xfrm>
            <a:off x="4699080" y="1800360"/>
            <a:ext cx="4022640" cy="5013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авильная рабочая поз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546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едует сидеть прямо (не сутулясь) и опираться спиной о спинку кресла. Прогибать спину в поясничном отделе нужно не назад, а, наоборот, в немного пере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допустимо работать развалившись в кресле. Такая поза вызывает быстрое утомление, снижение работоспособност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следует высоко поднимать запястья и выгибать кисти - это может стать причиной боли в руках и онемения пальце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лени - на уровне бедер или немного ниже. При таком положении ног не возникает напряжение мышц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льзя скрещивать ноги, класть ногу на ногу - это нарушает циркуляцию крови из-за сдавливания сосудов. Лучше держать обе стопы на подставке или пол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о сохранять прямой угол (9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в области локтевых, тазобедренных и голеностопных сустав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worker_place_displey"/>
          <p:cNvPicPr/>
          <p:nvPr/>
        </p:nvPicPr>
        <p:blipFill>
          <a:blip r:embed="rId1"/>
          <a:stretch/>
        </p:blipFill>
        <p:spPr>
          <a:xfrm>
            <a:off x="4189320" y="2205000"/>
            <a:ext cx="4630680" cy="2805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авильная рабочая поз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898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Монитор необходимо установить на такой высоте, чтобы центр экрана был на 15-20 см ниже уровня глаз, угол наклона до 15</a:t>
            </a:r>
            <a:r>
              <a:rPr b="0" lang="ru-RU" sz="19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Экран монитора должен находиться от глаз пользователя на оптимальном расстоянии 60-70 см, но не ближе 50 см с учетом размеров алфавитно-цифровых знаков и символов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е располагайте рядом с монитором блестящие и отражающие свет предметы 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оверхность экрана должна быть чистой и без световых бликов.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Так же при работе необходимо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ышать ритмично, свободно, глубоко, чтобы обеспечивать кислородом все части тел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ржать в расслабленном состоянии плечи и руки - в руках не будет напряжения, если плечи опущены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аще моргать и смотреть в даль. Моргание способствует не только увлажнению и очищению поверхности глаз, но и расслаблению лицевых, лобных мышц (без сдвигания бровей). Малая подвижность и длительное напряжение глазных мышц могут стать причиной нарушения аккомод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ощущении усталости какой-то части тела сделайте глубокий вдох и сильно напрягите уставшую часть тела, после чего задержите дыхание на 3-5 с и на выдохе расслабеть, затем можно повтори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ощущении усталости глаз следует в течении 2-3 мин окинуть взглядом комнату, устремить взгляд на разные предметы, смотреть в даль (в окно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резко возникло общее утомление, появилось дрожание изображение на экране (покачивание, подергивание, рябь), следует немедленно сообщить об этом учител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Примерный комплекс упражнений</a:t>
            </a:r>
            <a:br>
              <a:rPr sz="3600"/>
            </a:b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для глаз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рыть глаза, сильно напрягая глазные мышцы, на счет 1-4, затем раскрыть глаза, расслабить мышцы глаз, посмотреть вдаль на счет 1-6. Повторить 4-5 ра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мотреть на переносицу и задержать взор на счет 1-4. До усталости глаза не доводить. Затем открыть глаза, посмотреть вдаль на счет 1-6. Повторить 4-5 ра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поворачивая головы, посмотреть направо и зафиксировать взгляд на счет 1-4. Затем посмотреть вдаль прямо на счет 1-6. Аналогично проводятся упражнения, но с фиксацией взгляда влево, вверх, вниз. Повторить 3-4 раз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вести взгляд быстро по диагонали: направо вверх – налево вниз, потом прямо вдаль на счет 1-6; затем налево вверх – направо вниз и посмотреть вдаль на счет 1-6. Повторить 4-5 раз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10-15 минут непрерывной работы за ПК необходимо делать перерыв для проведения физкультминутки и упражнений для глаз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image002"/>
          <p:cNvPicPr/>
          <p:nvPr/>
        </p:nvPicPr>
        <p:blipFill>
          <a:blip r:embed="rId1"/>
          <a:stretch/>
        </p:blipFill>
        <p:spPr>
          <a:xfrm>
            <a:off x="6372360" y="981000"/>
            <a:ext cx="2305080" cy="685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Компьютер – электрический прибор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ьютер является электрическим прибором, поэтому для собственной безопасности нужно помнить, ч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каждому рабочему месту подведено опасное для жизни напряж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ика, с которой вы будете работать, достаточно нежная, поэтому соблюдайте следующие правил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вы обнаружили какую-либо неисправность, немедленно сообщите об этом преподавателю. Не работайте на неисправном оборудовании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включайте и не выключайте компьютеры самостоятельн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дергайте и вообще не трогайте различные провод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стучите по клавиатуре и мышк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садитесь за клавиатуру с грязными рука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j0195812"/>
          <p:cNvPicPr/>
          <p:nvPr/>
        </p:nvPicPr>
        <p:blipFill>
          <a:blip r:embed="rId1"/>
          <a:stretch/>
        </p:blipFill>
        <p:spPr>
          <a:xfrm>
            <a:off x="6948360" y="4724280"/>
            <a:ext cx="1773360" cy="182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6:10:05Z</dcterms:created>
  <dc:creator>bas</dc:creator>
  <dc:description/>
  <dc:language>en-US</dc:language>
  <cp:lastModifiedBy>Яна</cp:lastModifiedBy>
  <dcterms:modified xsi:type="dcterms:W3CDTF">2012-10-11T08:52:06Z</dcterms:modified>
  <cp:revision>9</cp:revision>
  <dc:subject/>
  <dc:title>Введение в информатику</dc:title>
</cp:coreProperties>
</file>