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F57-BFDC-46A8-8075-711972DB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8BD-AD47-49E6-86C9-701D5BE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EE4-5F74-4B78-807F-2E5C35BA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802-1B31-4692-B350-4C4CBCC2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692-0B84-4C98-8B1B-A4706DBD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B56F-6D82-48B3-9D15-74CC0BC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10CE-2C20-4893-8107-8E03E68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B926-C55A-438B-8085-8022D13A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A304-642C-4C1F-8C14-650ACA01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D400-720A-4053-8EE2-CDC966C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DE8C-EBA3-42D1-BDEF-FAF66C7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73A-1FC3-40BF-A2E0-524D5EA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CC2-D631-4563-BC05-ED5BE7E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A123-F55B-40A3-9EAC-A9E43E3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D8B-B9E1-4D34-9337-6086FBFC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4534-604D-467D-8DF3-29FD28F8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E698-3CBA-47E8-ACE4-1B846E55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D25-8450-48AA-AC8A-155DCBBB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285-C280-4B4D-8E69-D524AD34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CDD-1DEF-41A0-8F80-8ADAA6A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891-B0EB-4203-9B55-F9A2FA9F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0C3-8E50-4179-B193-FE51CE9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99D-E7DE-482C-98B3-204F425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96A-C21E-4DDC-86BD-AD33B03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F787-53DF-42DC-80F8-DCA0962C2D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3A4-A7C6-43DB-B2E4-0D4CE74088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Архивация файл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йлы и файлов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формация об архи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343320" cy="431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64040" y="1989000"/>
            <a:ext cx="3357720" cy="431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спаковка фай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73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47960" y="2460600"/>
            <a:ext cx="792000" cy="792360"/>
          </a:xfrm>
          <a:prstGeom prst="ellipse">
            <a:avLst/>
          </a:prstGeom>
          <a:solidFill>
            <a:srgbClr val="ffcc99">
              <a:alpha val="25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спаковка фай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472000" cy="4767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ему есть возможность уменьшать размер файл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архивац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файлы не имеет смысла архивиров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ему перед пересылкой текстового файла по электронной почте имеет смысл предварительно его упаковать в архи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оры, работающие с текстовой, графической, звуковой и другой информацией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дирую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ее наиболе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тественны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самым экономичным способ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ительно, если внимательно посмотреть любой текст, то можно заметить, что такие буквы «а» и «о», встречаются в нем гораздо чаще чем «ю» и «у». То же самое можно отнести и к сочетаниям бук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рисунках цвета соседних точек в большинстве случаев близки по оттенку. Подобно этому в любой последовательности информации некоторые сочетания встречаются намного чаще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е это приводит к тому, что в файлах, хранящих эту информацию, некоторы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бинац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 0 и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тречаю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раз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щ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чем другие. В таких случаях говорят, что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 обладае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збыточность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и есть возможность перекодировать содержание файла, уменьшив его разм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жа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остаточно придерживаться правила: чем чаще встречается комбинация, тем более коротким сочетанием из 0 и 1 ее мож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кодирова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Разумеется, делать это должна програм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рхив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ы, осуществляющие сжатие (упаковку файлов), называю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архиватора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сжатии можно уменьшить размер файла в несколько раз, что дает заметную экономию памя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nRar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nZip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к→Все программы→Архиваторы→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4005360"/>
            <a:ext cx="2879640" cy="1425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действия при работе с архивами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здание нового архи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ление файлов в арх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мотр содержимого архи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влечение файлов из архи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мотр файла в архив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даление файлов из архи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лочка WinRA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28000" cy="4721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рхивация с помощью оболочк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82760" y="1828800"/>
            <a:ext cx="5853240" cy="4816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38836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0800" y="2244600"/>
            <a:ext cx="792360" cy="792360"/>
          </a:xfrm>
          <a:prstGeom prst="ellipse">
            <a:avLst/>
          </a:prstGeom>
          <a:solidFill>
            <a:srgbClr val="ffcc99">
              <a:alpha val="25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рхивация с помощью оболочк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1828800"/>
            <a:ext cx="5524560" cy="4753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838836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рхивация с помощью оболочк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836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828800"/>
            <a:ext cx="5781600" cy="4757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bas</cp:lastModifiedBy>
  <dcterms:modified xsi:type="dcterms:W3CDTF">2006-02-08T11:15:27Z</dcterms:modified>
  <cp:revision>39</cp:revision>
  <dc:subject/>
  <dc:title>Устройство компьютера</dc:title>
</cp:coreProperties>
</file>